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D70914D-C7F3-40FD-8B75-91BA5E09A3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760" y="4549320"/>
            <a:ext cx="611820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introduction to RBM, emphasise that there are no absolutes in RBM – rather this is a rough typology to help them navigate – a guide – not a straightjack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columns of information appear in order, from left to right. The presenter introduces the results terminology from top to bottom (impact down to acti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arrows come in. The main message here is that there is a vertical logic of causality flowing between the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yellow column of examples emerge. These examples match the previous slide, so it is an opportunity to clarify again the levels and the caus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“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f – Th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flags appear. Again, emphasise the vertical, causal logic of resul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ite column emerges to provide the overall focus of change for each level of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column then emerges, emphasising the rough timeframe for levels of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the red triangle emerges. Message: that collective accountability for results increases as they move up the chain of results. At the outcome level, no single agency is likely to be able to guarantee a result. Rather, the collective efforts of several agencies and partners will be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– the second level of outcome appears. This is the time to introduce the UN’s approach to RBM which has two levels of Outcome – UNDAF Outcome and contributing CP Outcomes. Point out that the second level of outcome is still an outcome level result (ie institutional/ behavioural; 5 years)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it has a higher level of amb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move to the next slide to show them how these results fit into the Results Matri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941-D8D9-45D9-B509-FD1A5CDC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B95-63A6-4516-9653-60776FAF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732-87BA-41E3-9E32-746A7D8A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5F5-8E7D-4F21-85AD-6CA46B10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CE2-9510-4E8A-BEB4-E1D753C1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094-8417-453F-9C85-64E6D9EA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9DC-434C-472F-813C-A47AF8A6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47A-A206-4F01-921C-FC87FE62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D95-5289-456D-AB8B-441741D3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5B2-84D3-4BEA-B0F0-A98C480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368-5D4A-4239-A638-CE09F5A3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EB1-39B9-4F74-83BB-A18FC02A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A002-8E85-4AD0-955F-17519A7A0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1752480"/>
            <a:ext cx="1524240" cy="4724640"/>
            <a:chOff x="152280" y="1752480"/>
            <a:chExt cx="1524240" cy="4724640"/>
          </a:xfrm>
        </p:grpSpPr>
        <p:sp>
          <p:nvSpPr>
            <p:cNvPr id="49" name=""/>
            <p:cNvSpPr/>
            <p:nvPr/>
          </p:nvSpPr>
          <p:spPr>
            <a:xfrm>
              <a:off x="152280" y="3733920"/>
              <a:ext cx="152424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fecto dir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80" y="17524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a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47242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57150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28800" y="175248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duc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de la pobre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733920"/>
            <a:ext cx="23623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000 empresas nuevas y peque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ñas desarrolladas en las provincias más po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4648320"/>
            <a:ext cx="23623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7 incubadoras de modelo empresarial en provincias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ás po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15000"/>
            <a:ext cx="2514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dquisi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instalaciones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apacitaci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ón de 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rindar microcréditos pro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762120"/>
            <a:ext cx="15242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762120"/>
            <a:ext cx="22860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762120"/>
            <a:ext cx="1523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Enfoque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9907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762120"/>
            <a:ext cx="1523880" cy="76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a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ón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19920" y="1752480"/>
            <a:ext cx="1523880" cy="4724640"/>
            <a:chOff x="6019920" y="1752480"/>
            <a:chExt cx="1523880" cy="4724640"/>
          </a:xfrm>
        </p:grpSpPr>
        <p:sp>
          <p:nvSpPr>
            <p:cNvPr id="63" name=""/>
            <p:cNvSpPr/>
            <p:nvPr/>
          </p:nvSpPr>
          <p:spPr>
            <a:xfrm>
              <a:off x="6019920" y="571500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1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19920" y="47242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19920" y="3733920"/>
              <a:ext cx="1523880" cy="761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19920" y="1752480"/>
              <a:ext cx="1523880" cy="7621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-10 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ño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7525440" y="990720"/>
            <a:ext cx="1846080" cy="5410080"/>
            <a:chOff x="7525440" y="990720"/>
            <a:chExt cx="1846080" cy="5410080"/>
          </a:xfrm>
        </p:grpSpPr>
        <p:sp>
          <p:nvSpPr>
            <p:cNvPr id="68" name=""/>
            <p:cNvSpPr/>
            <p:nvPr/>
          </p:nvSpPr>
          <p:spPr>
            <a:xfrm rot="10800000">
              <a:off x="7655400" y="990720"/>
              <a:ext cx="1369080" cy="5410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00">
              <a:off x="7869960" y="1277640"/>
              <a:ext cx="8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á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1540600">
              <a:off x="7942320" y="5486400"/>
              <a:ext cx="86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258400">
              <a:off x="7619760" y="3194280"/>
              <a:ext cx="1657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dic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ón colectiva de cuen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1752480"/>
            <a:ext cx="1600200" cy="4038840"/>
            <a:chOff x="4343400" y="1752480"/>
            <a:chExt cx="1600200" cy="4038840"/>
          </a:xfrm>
        </p:grpSpPr>
        <p:sp>
          <p:nvSpPr>
            <p:cNvPr id="73" name=""/>
            <p:cNvSpPr/>
            <p:nvPr/>
          </p:nvSpPr>
          <p:spPr>
            <a:xfrm>
              <a:off x="4343400" y="3733920"/>
              <a:ext cx="15242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Institucional/ comport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3400" y="4724280"/>
              <a:ext cx="16002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Operacional/ destrezas, habilidades, productos y serv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1752480"/>
              <a:ext cx="15242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 </a:t>
              </a: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굴림"/>
                </a:rPr>
                <a:t>¡Hu</a:t>
              </a: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ano!</a:t>
              </a:r>
              <a:r>
                <a:rPr b="0" lang="en-GB" sz="24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2280" y="2743200"/>
            <a:ext cx="15242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ecto dir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23623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mento en el empleo y la generaci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ón de ingr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7432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Institucional/ comportamiento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2743200"/>
            <a:ext cx="15238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ñ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59400">
            <a:off x="304920" y="3428640"/>
            <a:ext cx="38088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429000"/>
            <a:ext cx="381240" cy="380880"/>
          </a:xfrm>
          <a:prstGeom prst="upArrow">
            <a:avLst>
              <a:gd name="adj1" fmla="val 50000"/>
              <a:gd name="adj2" fmla="val 430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91400">
            <a:off x="1346040" y="245556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066400">
            <a:off x="3962880" y="2369880"/>
            <a:ext cx="5331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0066400">
            <a:off x="3961080" y="32763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066400">
            <a:off x="3962880" y="434304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20066400">
            <a:off x="3962880" y="5333760"/>
            <a:ext cx="457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91400">
            <a:off x="1346040" y="3522240"/>
            <a:ext cx="9288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991400">
            <a:off x="1338480" y="4551120"/>
            <a:ext cx="10335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991400">
            <a:off x="1303200" y="1536480"/>
            <a:ext cx="973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1680" y="2434680"/>
            <a:ext cx="1146240" cy="3359520"/>
            <a:chOff x="301680" y="2434680"/>
            <a:chExt cx="1146240" cy="3359520"/>
          </a:xfrm>
        </p:grpSpPr>
        <p:sp>
          <p:nvSpPr>
            <p:cNvPr id="91" name=""/>
            <p:cNvSpPr/>
            <p:nvPr/>
          </p:nvSpPr>
          <p:spPr>
            <a:xfrm rot="10859400">
              <a:off x="304920" y="4419360"/>
              <a:ext cx="38088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59400">
              <a:off x="304920" y="54093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59400">
              <a:off x="304920" y="2437560"/>
              <a:ext cx="380880" cy="381240"/>
            </a:xfrm>
            <a:prstGeom prst="upArrow">
              <a:avLst>
                <a:gd name="adj1" fmla="val 50000"/>
                <a:gd name="adj2" fmla="val 4309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6680" y="54100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19720"/>
              <a:ext cx="381240" cy="38088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2438280"/>
              <a:ext cx="381240" cy="381240"/>
            </a:xfrm>
            <a:prstGeom prst="upArrow">
              <a:avLst>
                <a:gd name="adj1" fmla="val 50000"/>
                <a:gd name="adj2" fmla="val 4305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Typology for RBM: Poverty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0:10:13Z</dcterms:created>
  <dc:creator>kayijuka</dc:creator>
  <dc:description/>
  <dc:language>en-US</dc:language>
  <cp:lastModifiedBy>sandrone</cp:lastModifiedBy>
  <dcterms:modified xsi:type="dcterms:W3CDTF">2010-02-23T13:27:50Z</dcterms:modified>
  <cp:revision>6</cp:revision>
  <dc:subject/>
  <dc:title>PowerPoint Presentation</dc:title>
</cp:coreProperties>
</file>